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C4E-04D3-473D-892B-7655C2E5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612-6A0A-4972-B65C-CCF2EFD0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014C-8B1E-4D9F-A969-D7E3581A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4A34-863C-42CE-A8DE-A53167D2D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A0B-DF37-481B-8303-72C97602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A5B-F6C1-4373-A742-E78EEAF3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27BA-B264-49AF-9D6B-EAAB82A44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5B9E-94C3-4210-9F86-C60EAB3B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E9B-5702-4D95-B2E7-EA54B137B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1E4-ECF8-45F3-8A52-D7C2A9FCE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DF1-C379-405A-AF90-3E90BEAF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C26-265C-4540-8718-020D5520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886-2FF0-49D0-8E7A-D1157AAF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5A1-95D2-4C10-80F4-014ADB0D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9B31-EEDB-4687-8D81-CA59FFA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12BA-2D7E-47E7-8307-D33164BC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62EA-6FF0-4206-8663-986AE17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CD7F-242C-480B-A090-374A366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1C0-912F-4806-91CB-EAB4949A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FD8-0F6E-45FF-9291-B9E3209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8931-DEA4-4A87-984D-FBC608E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9E2-D7FF-4787-8005-32AA5FB4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D4E8-64C5-4940-ABAC-4A14B70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CA57-7235-43A6-80A9-BBE700F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A84E-CF54-40E6-ADA0-2D1461F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1AB2-DE9A-4999-B8B2-08116337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1C4E-62EC-45B4-9B66-15F52FC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C1FE-A080-4D92-B3C7-C1D135BB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8617-2F45-4CC9-B54E-01BD9B56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4A9A-74C9-47FC-9A0D-81DA1626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1638-8C78-421A-8E26-CF7CD0F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054F-6511-44C5-8E6C-BE326B7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B1F-DF88-4B12-B740-63B6BB1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B050-3187-4F42-8F60-12B1C0E9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DDBB-DC2C-4BA8-A39D-6033293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F200-5FAD-4B85-BE40-223913F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5289-ACD3-40C6-817D-FA5C6DC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3786-822F-434A-9CC7-76025F4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DBD4-4AAE-44F0-BC00-FC1CBB0B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62D6-F2D5-41A8-A965-7364180D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288E-8A1B-4E9C-9B9B-F9016FE3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6A2A-7437-4949-821B-D31B507E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EB00-C957-45BB-9DC1-6F359BF5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6EA-B81A-4704-978F-9D70DD3C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CB62-FDD7-4547-A247-A965F53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C5430-B514-4E73-9AF8-597B5764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9FB97-9332-4FDB-B37A-91616E6B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A27DA-EC04-4A39-BAEF-C15B1628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8F9B-1599-40E0-9B93-6AA79D8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FF62-65B0-468E-BFF8-4B27F8A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1339-004D-42E6-AFDF-4A46963B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C4C2-600C-4F7C-9ACC-845B8AE3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BBCF-BCE8-4212-9E04-7438C319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20F6-8220-4629-8E68-836000F0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696-C8AD-4F9E-B8A2-1BB58217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E9339-6407-48A3-A6A4-D9C4495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5E96-9B25-4309-BF16-C5A27C13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6BF4-F8E2-490D-AEC9-396E002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34D85-74AA-4E95-B5DF-80E4D41F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88D41-2DD7-4C8B-BF97-58BB1C32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F8224-76AA-448A-894E-CA0F4BB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32EC-4930-43A5-B9FA-6331397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23EA-FC86-4D8B-8D76-7F8F630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AE11-B3B0-4B0F-9F62-C20F47C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8011-4A24-4F38-B454-8F53B1F5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6E8-A799-4182-B385-D51FCAFE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35F8-DEF7-4CF5-85FD-7F7EBAAF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89F-A140-4616-9FA6-87D5F3D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93A-9300-4663-B343-3E1E90D4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1F0-05AA-4F64-8EE0-93483A8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C7E5-957F-4881-B8EC-674B357C6DD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63B2-52FE-423A-AA23-423AAB05462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D3BA-BB40-4AC5-80CF-4DFAF3EC212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821-0D4E-40EA-A3D1-6AF35B28CD2C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3DF5-1ED4-4CF8-A61B-7AF65F6364F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the least common multiple to write equivalent fractions if the denominators are not the s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btract numerators.  If you cannot subtract numerators, then rename the first mixed numb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btract whole numb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if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762120" y="17524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13716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3716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3049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85800" y="255888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1371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3716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3716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30492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2209680" y="2286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962520" y="17524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6483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6483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2209680" y="3200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962520" y="25909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4648320" y="3156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648320" y="2698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4648320" y="3079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37339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48769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48769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48769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4114800" y="38545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438280" y="5334120"/>
            <a:ext cx="3505320" cy="3682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nswer is in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33200" y="225360"/>
            <a:ext cx="848700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914400" y="152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5238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523880" y="1600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38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533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914400" y="227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1523880" y="272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523880" y="2346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23880" y="272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3808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3429000" y="1600200"/>
            <a:ext cx="2514600" cy="990720"/>
          </a:xfrm>
          <a:prstGeom prst="rect">
            <a:avLst/>
          </a:prstGeom>
          <a:solidFill>
            <a:srgbClr val="ecf0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6095880" y="1600200"/>
            <a:ext cx="2514600" cy="990720"/>
          </a:xfrm>
          <a:prstGeom prst="rect">
            <a:avLst/>
          </a:prstGeom>
          <a:solidFill>
            <a:srgbClr val="ecf0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3429000" y="2743200"/>
            <a:ext cx="2514600" cy="990720"/>
          </a:xfrm>
          <a:prstGeom prst="rect">
            <a:avLst/>
          </a:prstGeom>
          <a:solidFill>
            <a:srgbClr val="ecf0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23"/>
          <p:cNvGraphicFramePr/>
          <p:nvPr/>
        </p:nvGraphicFramePr>
        <p:xfrm>
          <a:off x="6095880" y="2708280"/>
          <a:ext cx="2590920" cy="10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708280"/>
                    <a:ext cx="2590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24"/>
          <p:cNvSpPr/>
          <p:nvPr/>
        </p:nvSpPr>
        <p:spPr>
          <a:xfrm>
            <a:off x="380880" y="3857760"/>
            <a:ext cx="4496040" cy="147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ree and one th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take away one whole and five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this, we need to rename to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65530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39152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822960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380880" y="5410080"/>
            <a:ext cx="4496040" cy="133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have two sixths, but we need to take away five sixths.  We don’t have enough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one whole to six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1"/>
          <p:cNvSpPr/>
          <p:nvPr/>
        </p:nvSpPr>
        <p:spPr>
          <a:xfrm>
            <a:off x="38098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2"/>
          <p:cNvSpPr/>
          <p:nvPr/>
        </p:nvSpPr>
        <p:spPr>
          <a:xfrm>
            <a:off x="42670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556272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4"/>
          <p:cNvSpPr/>
          <p:nvPr/>
        </p:nvSpPr>
        <p:spPr>
          <a:xfrm>
            <a:off x="47242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5"/>
          <p:cNvSpPr/>
          <p:nvPr/>
        </p:nvSpPr>
        <p:spPr>
          <a:xfrm>
            <a:off x="51814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5029200" y="3962520"/>
            <a:ext cx="38862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can cross out five of the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7"/>
          <p:cNvSpPr/>
          <p:nvPr/>
        </p:nvSpPr>
        <p:spPr>
          <a:xfrm flipH="1">
            <a:off x="4723920" y="2743200"/>
            <a:ext cx="221004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8"/>
          <p:cNvSpPr/>
          <p:nvPr/>
        </p:nvSpPr>
        <p:spPr>
          <a:xfrm flipH="1" flipV="1">
            <a:off x="4723920" y="2743200"/>
            <a:ext cx="221004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5105520" y="4724280"/>
            <a:ext cx="3809880" cy="105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ubtracted the fractions.  Now subtract the wh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one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248520" y="1676520"/>
            <a:ext cx="220968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1"/>
          <p:cNvSpPr/>
          <p:nvPr/>
        </p:nvSpPr>
        <p:spPr>
          <a:xfrm flipH="1" flipV="1">
            <a:off x="6248520" y="1676520"/>
            <a:ext cx="220968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2"/>
          <p:cNvSpPr/>
          <p:nvPr/>
        </p:nvSpPr>
        <p:spPr>
          <a:xfrm>
            <a:off x="5105520" y="5943600"/>
            <a:ext cx="380988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left with one whole and three sixt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914400" y="152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14479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523880" y="1600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5238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33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914400" y="227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1523880" y="272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523880" y="2346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523880" y="272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3808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243828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86200" y="15843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4495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6"/>
          <p:cNvSpPr/>
          <p:nvPr/>
        </p:nvSpPr>
        <p:spPr>
          <a:xfrm>
            <a:off x="2362320" y="2819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3886200" y="2286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8"/>
          <p:cNvSpPr/>
          <p:nvPr/>
        </p:nvSpPr>
        <p:spPr>
          <a:xfrm>
            <a:off x="4495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3581280" y="3429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152280" y="3962520"/>
            <a:ext cx="274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CM of 3 and 6 is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45720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4572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7432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4572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2743200" y="25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4572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52280" y="4343400"/>
            <a:ext cx="274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quivalent fractions, but we don’t have enough sixths to subt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152280" y="5562720"/>
            <a:ext cx="27432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row from the whole number.  Rename the whole as six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9"/>
          <p:cNvSpPr/>
          <p:nvPr/>
        </p:nvSpPr>
        <p:spPr>
          <a:xfrm>
            <a:off x="3962520" y="175248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388620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6781680" y="1600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7162920" y="1584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3"/>
          <p:cNvSpPr/>
          <p:nvPr/>
        </p:nvSpPr>
        <p:spPr>
          <a:xfrm>
            <a:off x="79246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8001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5943600" y="3733920"/>
            <a:ext cx="2971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lready had two sixths, and now we have borrowed one whole, which is six more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7"/>
          <p:cNvSpPr/>
          <p:nvPr/>
        </p:nvSpPr>
        <p:spPr>
          <a:xfrm>
            <a:off x="5943600" y="495288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nd six are eight. We now have eight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8"/>
          <p:cNvSpPr/>
          <p:nvPr/>
        </p:nvSpPr>
        <p:spPr>
          <a:xfrm>
            <a:off x="4648320" y="1752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48006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0"/>
          <p:cNvSpPr/>
          <p:nvPr/>
        </p:nvSpPr>
        <p:spPr>
          <a:xfrm>
            <a:off x="5943600" y="563868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he fractions, then the whol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1"/>
          <p:cNvSpPr/>
          <p:nvPr/>
        </p:nvSpPr>
        <p:spPr>
          <a:xfrm>
            <a:off x="4648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2"/>
          <p:cNvSpPr/>
          <p:nvPr/>
        </p:nvSpPr>
        <p:spPr>
          <a:xfrm>
            <a:off x="4724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3"/>
          <p:cNvSpPr/>
          <p:nvPr/>
        </p:nvSpPr>
        <p:spPr>
          <a:xfrm>
            <a:off x="47242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4038480" y="36417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5943600" y="632448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6"/>
          <p:cNvSpPr/>
          <p:nvPr/>
        </p:nvSpPr>
        <p:spPr>
          <a:xfrm>
            <a:off x="3276720" y="4952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3886200" y="50133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44197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4956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44956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838080" y="1600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"/>
          <p:cNvSpPr/>
          <p:nvPr/>
        </p:nvSpPr>
        <p:spPr>
          <a:xfrm>
            <a:off x="1371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3716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371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38080" y="242244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371600" y="287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371600" y="249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371600" y="2879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>
            <a:off x="533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228600" y="3429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>
            <a:off x="213372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352680" y="158436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6"/>
          <p:cNvSpPr/>
          <p:nvPr/>
        </p:nvSpPr>
        <p:spPr>
          <a:xfrm>
            <a:off x="39625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213372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352680" y="2346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"/>
          <p:cNvSpPr/>
          <p:nvPr/>
        </p:nvSpPr>
        <p:spPr>
          <a:xfrm>
            <a:off x="39625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0"/>
          <p:cNvSpPr/>
          <p:nvPr/>
        </p:nvSpPr>
        <p:spPr>
          <a:xfrm>
            <a:off x="297180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0" y="3809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CM of 2 and 7 is 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38862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38862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228600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39625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23623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388620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152280" y="41911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not have enough fourteenths, so we must borrow from th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9"/>
          <p:cNvSpPr/>
          <p:nvPr/>
        </p:nvSpPr>
        <p:spPr>
          <a:xfrm>
            <a:off x="3352680" y="175248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64008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6858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3"/>
          <p:cNvSpPr/>
          <p:nvPr/>
        </p:nvSpPr>
        <p:spPr>
          <a:xfrm>
            <a:off x="7620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4"/>
          <p:cNvSpPr/>
          <p:nvPr/>
        </p:nvSpPr>
        <p:spPr>
          <a:xfrm>
            <a:off x="7696080" y="99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5"/>
          <p:cNvSpPr/>
          <p:nvPr/>
        </p:nvSpPr>
        <p:spPr>
          <a:xfrm>
            <a:off x="76960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6"/>
          <p:cNvSpPr/>
          <p:nvPr/>
        </p:nvSpPr>
        <p:spPr>
          <a:xfrm>
            <a:off x="4038480" y="1752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42670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8"/>
          <p:cNvSpPr/>
          <p:nvPr/>
        </p:nvSpPr>
        <p:spPr>
          <a:xfrm>
            <a:off x="40384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9"/>
          <p:cNvSpPr/>
          <p:nvPr/>
        </p:nvSpPr>
        <p:spPr>
          <a:xfrm>
            <a:off x="40384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0"/>
          <p:cNvSpPr/>
          <p:nvPr/>
        </p:nvSpPr>
        <p:spPr>
          <a:xfrm>
            <a:off x="40384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1"/>
          <p:cNvSpPr/>
          <p:nvPr/>
        </p:nvSpPr>
        <p:spPr>
          <a:xfrm>
            <a:off x="3352680" y="35812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2"/>
          <p:cNvSpPr/>
          <p:nvPr/>
        </p:nvSpPr>
        <p:spPr>
          <a:xfrm>
            <a:off x="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nswer is in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you are subtracting a mixed number from a whole number, then rename the whole numb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rrow one whole and use the denominator from the frac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990720" y="15080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"/>
          <p:cNvSpPr/>
          <p:nvPr/>
        </p:nvSpPr>
        <p:spPr>
          <a:xfrm>
            <a:off x="685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990720" y="227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380880" y="3352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1600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6002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6002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1066680" y="16765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99072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5562720" y="1143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5943600" y="1143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>
            <a:off x="66294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7816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67816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5105520" y="27432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hoose eight eighths because the denominator of the fraction is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144792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160020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16002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2"/>
          <p:cNvSpPr/>
          <p:nvPr/>
        </p:nvSpPr>
        <p:spPr>
          <a:xfrm>
            <a:off x="167652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17524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99072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Program Files\Common Files\Microsoft Shared\Clipart\cagcat50\BL00347_.wmf"/>
          <p:cNvPicPr/>
          <p:nvPr/>
        </p:nvPicPr>
        <p:blipFill>
          <a:blip r:embed="rId2"/>
          <a:stretch/>
        </p:blipFill>
        <p:spPr>
          <a:xfrm>
            <a:off x="2840040" y="1693800"/>
            <a:ext cx="3463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1:39Z</dcterms:created>
  <dc:creator>Josh Hammond</dc:creator>
  <dc:description/>
  <dc:language>en-US</dc:language>
  <cp:lastModifiedBy>Home</cp:lastModifiedBy>
  <dcterms:modified xsi:type="dcterms:W3CDTF">2010-11-14T16:03:30Z</dcterms:modified>
  <cp:revision>23</cp:revision>
  <dc:subject/>
  <dc:title>Subtracting Mixed Numbers</dc:title>
</cp:coreProperties>
</file>